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wmf" ContentType="image/x-wmf"/>
  <Override PartName="/ppt/media/image9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643-7771-4B17-8C0B-54CCAFDE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487-59AE-48FB-8782-D53DF697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2CF-1AC8-4EDB-89EC-3B2F9B4B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9EF-7F35-45B8-AB16-B378A0A9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0977-8182-4398-A695-CFB171A2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C7C7-F666-404C-9A18-A5B0B64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4FC1-CD37-47ED-A893-FC1F7C6F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2915-372B-49AB-BF59-DB32FEA6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29E7-D5CF-4D7D-B8DF-B4ECD1EB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38A1-A6BF-4AB6-8655-6FF108F0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F54A-8530-49EB-AFF8-2B6F430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C91-A262-4531-A706-72401197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6F23-A76B-42B5-A5FF-F0DE945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9198-50B4-4134-8971-9E16F45E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7F25-3974-4B6B-BF0A-8E04DF4F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DE93-DCE1-4685-BDD0-9AB12F10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A2B1-FCF9-4525-8211-720A3DC1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F193-54DA-44D4-ACF0-6855399A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A8D2-E60D-4F8E-B7B7-EF8B1077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5D895-4324-45B7-9C11-CC36288B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A2F7E-CB8E-4912-9DC4-2B0C95BF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DA48-5CBB-46A4-8F0D-D9B5D8A8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AEE-4A76-4FD5-8F86-4638F170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CA48-9101-44E2-B843-19FA343C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42B9-8D76-42AD-BD3E-B3E38F2E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B0F5-757C-496C-A1C0-B5B8E94D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447D-8649-46F2-B538-2D9424B7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C437-BFCF-48FD-9CC6-D68E11E2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DD4D0-C0FE-4FAF-B8BE-AFDC55D0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CF45-95D9-41E8-86D7-14D71664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18B58-8E19-4E2D-B3FB-D1268B43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BCB5-9F36-49D8-9264-62197B8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C802-7DFE-41A9-92A3-E550FD44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456-8887-4C80-B64C-1E74634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EFB48-1BAB-450F-93E3-772525F3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1D97-8A16-416F-B011-6DD7AAF6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9D36-1DCB-414D-90CC-8387479E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EF3A-03F9-4995-8565-B189D270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EBFCA-0FB5-4446-9881-1AF50000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B308-0236-442D-AD58-6F019BD8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B407-DDAB-483B-8720-3CD93760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9782-F1B3-4655-BDAE-66F34D88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7B35-A384-4000-ACB4-3535D928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DCD7A-9AC3-4AFF-A205-BF3ED2D7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260-3D98-4C66-AA28-4364CFAB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5A70B-F6E7-49D2-9B11-4AB151F0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648AC-206F-409B-AC1C-2D4CC76B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85BC3-8700-4C71-8C6B-98502965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BBA21-D414-4F03-865F-BEC9F46E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1345A-1816-4DF1-B7C3-3121EC6E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7CE11-A562-4FB3-BD2A-1EFF9C9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09064-8964-40DC-BDFB-D76CD2D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799D2-D32A-4B8F-9E0C-C43EBFE0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95BB-9E62-44C6-954A-2B50A03A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CA151-B200-45C0-A686-60C30E4D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3BC-FE15-4F1E-80BD-C071F2CA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3425-782F-4987-B3F9-28239834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4DFCB-A0C8-455F-B12E-F16C1930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E90D9-84B5-4866-B2FA-210A0FB2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1A5ED-0BB6-4AAF-8BC7-218EF49D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37220-6E28-49D0-BEAB-DF844980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A035E-3239-4CE3-B166-05BDA038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6F698-6873-42C8-80C3-B4B40BC1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CB114-1D39-480F-9A16-FF3BB4A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898AF-3BFB-4D7E-8E1A-75D3888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904EB-BE16-4653-B864-637CF6E2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2A6-DB08-4C12-BBD6-5910AD40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5738F-70A3-4250-9784-C17432C7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27430-0F93-416D-AC4C-D77773E8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BC0CA-9CD1-48F4-95D3-14DE00CD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DEC3A-DA62-4AE6-A3EC-8695FE25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21331-82A1-4457-8FC5-AAF48ABE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CDE4-E139-4AF4-B26C-5CDF1172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46AB-D95C-4D4D-8861-4959D484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B71B7-7317-4138-87EC-4269C702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991B8-E061-4C00-A1B2-24019C34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FC57-E2C7-4974-A2CD-BD33BE9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629-EB2B-41E7-8DBC-1E4A5E66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F3299-338C-49BB-A8D8-FA29AF70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732EB-55CE-4DA3-881A-2B234DA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D7C68-B7C6-4B2F-A30F-4ED14E97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40B7-FB3F-41C6-B9CB-ECAA179A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FFA99-E6F4-4C72-BA9A-19F3310B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B588C-4432-40F1-B2F4-B1A9FCD4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44435-3067-4349-9107-833A5517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2BCF-199E-42AD-8F91-A2331426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84677-2FBB-42A4-9CBA-1CBFB2A6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7B873-739E-4BB2-BB72-142AFB3D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120-9F23-4F0E-9C70-698AA919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1908D-91FF-441E-AA2C-913D9BD9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86F6-1677-4D04-A9FF-4419234E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221F1-D5D3-4CF8-86D9-9E842C04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D54D7-6EFA-48A4-9867-4F35685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1B18E-D729-403F-B5CD-A6A0D9EF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16B9B-59A9-447A-A775-38F15DF3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AC7C8-BB40-409B-B2C5-381E898C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B3BF-F20A-4AB5-96BA-7420168008A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9350-DC7A-46A9-BC1A-05C2106556E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D6DD-221E-4D92-AF11-438EABDDFD4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A0B3-C5CB-42C2-957C-9B19EABC64D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A57C-4C02-4842-936C-37105E1D017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7C10-9D2E-4B0F-966B-CBEC386490C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762A-2788-4D30-961E-E13AED39D88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DDE-5B15-4D51-B9BA-A5090239065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nfourok.ru/go.html?href=http%3A%2F%2Fwww.theanimalworld.ru%2Fbooks%2Fbook-3%2F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42600" y="1071360"/>
            <a:ext cx="7072200" cy="35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Исследовательская работа на тему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«Бездомные собаки как одна из экологических проблем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поселка Строитель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2" descr="http://1.bp.blogspot.com/-2feZxnIDLLQ/VqoZfPZr0EI/AAAAAAAAACM/qr1yszLYqxk/s1600/%25D1%2581%25D0%25BE%25D0%25B1%25D0%25B0%25D1%2587%25D0%25BA%25D0%25B0.png"/>
          <p:cNvPicPr/>
          <p:nvPr/>
        </p:nvPicPr>
        <p:blipFill>
          <a:blip r:embed="rId1"/>
          <a:stretch/>
        </p:blipFill>
        <p:spPr>
          <a:xfrm>
            <a:off x="6826320" y="2214720"/>
            <a:ext cx="2317680" cy="347472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2143080" y="58579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Работу выполнила  коман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«Юные знатоки приро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428760" y="1714680"/>
          <a:ext cx="428616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714680"/>
                    <a:ext cx="428616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4714920" y="1571760"/>
          <a:ext cx="4019400" cy="30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4920" y="1571760"/>
                    <a:ext cx="401940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оугольник 8"/>
          <p:cNvSpPr/>
          <p:nvPr/>
        </p:nvSpPr>
        <p:spPr>
          <a:xfrm>
            <a:off x="214200" y="457200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показали,  чт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беих возрас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к бездомным собакам относятся положительно, большинство взя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 их к себе домой. Но группа 6 класса честно разделилась на две груп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относятся к бездомным собакам более полож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85840" y="1714320"/>
            <a:ext cx="850104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губернатора мы нашли несколько писем – жалоб от жителей, что в  нашем поселке много бездомных собак.  Поэтому нами было  проведено анкетирование среди жителей п. Строитель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жителей п. Строитель по вопросу «Возросло или уменьшилось количество бездомных собак?» (50 человек)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% считают, что число бездомных собак не изменилось по сравнению с прошлым годом, 13% считают, что бездомных собак в поселке нет, 43%, что увеличилось, 9% уменьшилось, 9% затруднились ответить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вызывает большой интерес жителей п.Строитель. Они проявляют гуманность к бездомным животным и заинтересованы в ее решен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AutoShape 1" descr=""/>
          <p:cNvPicPr/>
          <p:nvPr/>
        </p:nvPicPr>
        <p:blipFill>
          <a:blip r:embed="rId1"/>
          <a:stretch/>
        </p:blipFill>
        <p:spPr>
          <a:xfrm>
            <a:off x="182520" y="201600"/>
            <a:ext cx="87854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214200" y="274680"/>
            <a:ext cx="8715600" cy="1511280"/>
          </a:xfrm>
          <a:custGeom>
            <a:avLst/>
            <a:gdLst>
              <a:gd name="textAreaLeft" fmla="*/ 2178720 w 8715600"/>
              <a:gd name="textAreaRight" fmla="*/ 6536880 w 8715600"/>
              <a:gd name="textAreaTop" fmla="*/ 0 h 1511280"/>
              <a:gd name="textAreaBottom" fmla="*/ 1322640 h 1511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13840" y="1928880"/>
            <a:ext cx="8472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вгусте 2015 года в Тамбове заработал приют для бездомных животных  «Доброе сердце». Он принадлежит некоммерческой организации и существует на пожертвования. На средства гранта зоозащитники расчистили и огородили территорию на улице Московская, построили вольеры, работает административный корпус, будет карантинный блок. Всего приют может принять до полусотни собак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2206800" y="92160"/>
            <a:ext cx="4657680" cy="1450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s.vtambove.ru/localStorage/news/8b/d3/0d/a./8bd30da_resizedScaled_817to612.jpg"/>
          <p:cNvPicPr/>
          <p:nvPr/>
        </p:nvPicPr>
        <p:blipFill>
          <a:blip r:embed="rId2"/>
          <a:stretch/>
        </p:blipFill>
        <p:spPr>
          <a:xfrm>
            <a:off x="3000240" y="4000680"/>
            <a:ext cx="3571920" cy="26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214200" y="1213920"/>
            <a:ext cx="871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проблему бездомных животных, пришли 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с решением данной проблемы отдельному человеку не справиться, каким бы добрым и жалостливым он не был. Думаем начин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данной пробл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ы с поправки в Федеральный закон «О защите животных от жестокого обращения»,  в городах открывать приюты, повысить ответственность владельцев собак и кошек за соблюдением правил содержания животных; проводить воспитательную работу среди населения и особенно детей среднего школьного возраста о толерантном отношении к нашим «братьям меньшим»; проводить стерилизацию животных; проводить постоянные акции среди школьников и жителей обла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85480" y="148104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к реальному благополучию животных намного дольше и труднее, чем кажется многим нашим нетерпеливым или сентиментальным защитникам животных. Гуманность не возникает сама собой из принятия наивного «гуманного» закона. Гуманность возникает, когда в ее сторону изменяется реальная жизнь, пусть даже медленно. Животные – наши друзья! Они нужны нам, мы нужны им. И как сказал де Сент-Экзюпер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в ответе за тех, кого приручили»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http://cs616730.vk.me/v616730042/2518/ywLSB_j8Ay0.jpg"/>
          <p:cNvPicPr/>
          <p:nvPr/>
        </p:nvPicPr>
        <p:blipFill>
          <a:blip r:embed="rId2"/>
          <a:stretch/>
        </p:blipFill>
        <p:spPr>
          <a:xfrm>
            <a:off x="6500880" y="4572000"/>
            <a:ext cx="17143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1"/>
          <p:cNvSpPr/>
          <p:nvPr/>
        </p:nvSpPr>
        <p:spPr>
          <a:xfrm>
            <a:off x="142920" y="274680"/>
            <a:ext cx="8715240" cy="1225440"/>
          </a:xfrm>
          <a:custGeom>
            <a:avLst/>
            <a:gdLst>
              <a:gd name="textAreaLeft" fmla="*/ 2178720 w 8715240"/>
              <a:gd name="textAreaRight" fmla="*/ 6536520 w 8715240"/>
              <a:gd name="textAreaTop" fmla="*/ 0 h 1225440"/>
              <a:gd name="textAreaBottom" fmla="*/ 1072440 h 1225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3840" y="1785600"/>
            <a:ext cx="85726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Чаплина «Домашние животные» Издательство: Эксмо Москва 2008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е Сент-Экзюпери «Маленький Принц», 2007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http://www.theanimalworld.ru/books/book-3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http://ru.vlab.wikia.com/wiki/Бездомные_животны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2"/>
          <a:stretch/>
        </p:blipFill>
        <p:spPr>
          <a:xfrm>
            <a:off x="2206800" y="268200"/>
            <a:ext cx="4554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1"/>
          <p:cNvSpPr/>
          <p:nvPr/>
        </p:nvSpPr>
        <p:spPr>
          <a:xfrm>
            <a:off x="500040" y="285840"/>
            <a:ext cx="8278920" cy="1143000"/>
          </a:xfrm>
          <a:custGeom>
            <a:avLst/>
            <a:gdLst>
              <a:gd name="textAreaLeft" fmla="*/ 2069640 w 8278920"/>
              <a:gd name="textAreaRight" fmla="*/ 6209280 w 8278920"/>
              <a:gd name="textAreaTop" fmla="*/ 0 h 1143000"/>
              <a:gd name="textAreaBottom" fmla="*/ 1000440 h 1143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5840" y="1643040"/>
            <a:ext cx="84009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является актуальной и гораздо серьёзнее, чем нам кажется на первый взгляд. Бездомные собаки представляют собой угрозу безопасности населения: они являются переносчиками различных инфекционных заболеваний, в том числе экто - и эндопаразитов, возбудителей кишечных заболеваний и бешенства; отдельные стаи собак регулярно нападают на прохожих, пугают дет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реди современных экологических проблем  особого внимания заслуживает вопрос, связанный с наличием большого количества бездомных собак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читаем, что это серьезная проблема для населенных пунктов, и поэтому не хотим быть равнодушными и по мере возможности  изучить её в рамках своего поселк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ttps://im0-tub-ru.yandex.net/i?id=c69649a1634c399d6de22ba965e91458&amp;n=33&amp;h=215&amp;w=246"/>
          <p:cNvPicPr/>
          <p:nvPr/>
        </p:nvPicPr>
        <p:blipFill>
          <a:blip r:embed="rId1"/>
          <a:stretch/>
        </p:blipFill>
        <p:spPr>
          <a:xfrm>
            <a:off x="7372440" y="5310360"/>
            <a:ext cx="1771560" cy="1547640"/>
          </a:xfrm>
          <a:prstGeom prst="rect">
            <a:avLst/>
          </a:prstGeom>
          <a:ln w="0">
            <a:noFill/>
          </a:ln>
        </p:spPr>
      </p:pic>
      <p:pic>
        <p:nvPicPr>
          <p:cNvPr id="377" name="AutoShape 1" descr=""/>
          <p:cNvPicPr/>
          <p:nvPr/>
        </p:nvPicPr>
        <p:blipFill>
          <a:blip r:embed="rId2"/>
          <a:stretch/>
        </p:blipFill>
        <p:spPr>
          <a:xfrm>
            <a:off x="426960" y="146160"/>
            <a:ext cx="8296200" cy="1103040"/>
          </a:xfrm>
          <a:prstGeom prst="rect">
            <a:avLst/>
          </a:prstGeom>
          <a:ln w="0">
            <a:noFill/>
          </a:ln>
        </p:spPr>
      </p:pic>
      <p:pic>
        <p:nvPicPr>
          <p:cNvPr id="378" name="AutoShape 1" descr=""/>
          <p:cNvPicPr/>
          <p:nvPr/>
        </p:nvPicPr>
        <p:blipFill>
          <a:blip r:embed="rId3"/>
          <a:stretch/>
        </p:blipFill>
        <p:spPr>
          <a:xfrm>
            <a:off x="396720" y="2152800"/>
            <a:ext cx="8296560" cy="1108080"/>
          </a:xfrm>
          <a:prstGeom prst="rect">
            <a:avLst/>
          </a:prstGeom>
          <a:ln w="0">
            <a:noFill/>
          </a:ln>
        </p:spPr>
      </p:pic>
      <p:sp>
        <p:nvSpPr>
          <p:cNvPr id="379" name="Содержимое 1"/>
          <p:cNvSpPr/>
          <p:nvPr/>
        </p:nvSpPr>
        <p:spPr>
          <a:xfrm>
            <a:off x="357120" y="3429000"/>
            <a:ext cx="8229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учную литературу по данной те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-  консультацию со школьным медицинским работн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места обитания бездомных собак в посел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 социологический опрос (анкетирование) населения разных возрастов и разного социального положения с целью выяснения отношения  к проблеме бездомных животных  и путей е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организацию, которая занимается данной пробле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64296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причины, почему собаки становятся бездом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714840" y="356760"/>
            <a:ext cx="5214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омные  животн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людей за братье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х меньши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 она може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меньшени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бездомных животных 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м город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7" descr="https://ds02.infourok.ru/uploads/ex/109a/00004b31-7c3f6f26/hello_html_m3d432e7e.png"/>
          <p:cNvPicPr/>
          <p:nvPr/>
        </p:nvPicPr>
        <p:blipFill>
          <a:blip r:embed="rId1"/>
          <a:stretch/>
        </p:blipFill>
        <p:spPr>
          <a:xfrm>
            <a:off x="142920" y="714240"/>
            <a:ext cx="392904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Выяснить  причины появления бездомных животных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явить места обитания бездомных собак в посел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ровести беседу -  консультацию со школьным        медицинским работнико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знакомиться со статистикой обращения граждан в травматологию им.  Архиепископа Лук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Провести  социологический опрос  среди обучающихся нашей школы, среди жителей  поселк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знакомиться с работой приюта для бездомных животных «Доброе сердце»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Обработка результат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вод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AutoShape 1" descr=""/>
          <p:cNvPicPr/>
          <p:nvPr/>
        </p:nvPicPr>
        <p:blipFill>
          <a:blip r:embed="rId1"/>
          <a:stretch/>
        </p:blipFill>
        <p:spPr>
          <a:xfrm>
            <a:off x="426960" y="165240"/>
            <a:ext cx="8296200" cy="151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http://www.playcast.ru/uploads/2016/09/15/19900551.png"/>
          <p:cNvPicPr/>
          <p:nvPr/>
        </p:nvPicPr>
        <p:blipFill>
          <a:blip r:embed="rId2"/>
          <a:stretch/>
        </p:blipFill>
        <p:spPr>
          <a:xfrm>
            <a:off x="7143840" y="5214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 быстро размножают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тветственность владельц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ева, уезжая в отпуск, выгоняют животных на улиц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ись или убежали от хозя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рытые мусорные баки с остатками ед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приют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учета домашних животны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s://img-fotki.yandex.ru/get/5007/50114850.5d7/0_e2db0_5faae7bf_S"/>
          <p:cNvPicPr/>
          <p:nvPr/>
        </p:nvPicPr>
        <p:blipFill>
          <a:blip r:embed="rId2"/>
          <a:stretch/>
        </p:blipFill>
        <p:spPr>
          <a:xfrm>
            <a:off x="6357960" y="3643200"/>
            <a:ext cx="22860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1"/>
          <p:cNvSpPr/>
          <p:nvPr/>
        </p:nvSpPr>
        <p:spPr>
          <a:xfrm>
            <a:off x="142920" y="214200"/>
            <a:ext cx="9001080" cy="1214640"/>
          </a:xfrm>
          <a:custGeom>
            <a:avLst/>
            <a:gdLst>
              <a:gd name="textAreaLeft" fmla="*/ 2250000 w 9001080"/>
              <a:gd name="textAreaRight" fmla="*/ 6751080 w 9001080"/>
              <a:gd name="textAreaTop" fmla="*/ 0 h 1214640"/>
              <a:gd name="textAreaBottom" fmla="*/ 1063080 h 1214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5480" y="14997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еседы с медицинским работником нашей школы мы узнали, что бездомные собаки являются носителями инфекционных заболеваний.  Бездомные собаки заболевают  такими  заразными, опасными болезнями, как чума    плотоядных – одна из самых опасных вирусных болезней собак, бешенство, респираторная аденовирусная инфекция – гепатит, конъюнктивит, одышка, кашель, парвовирусная инфекция собак – внутриутробное заражение плода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ыявили местообитания бездомных собак в нашем поселке  – это территории Промзоны поселка Строитель, рынка Центрального микрорайона, участки дач, места для мусо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2494080" y="231840"/>
            <a:ext cx="42177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85840" y="1642680"/>
            <a:ext cx="84009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в Тамбове участились случаи нападения бездомных собак на людей.  В прошлом году в травматологию им. Архиепископа Луки обратились 57 тамбовчан, которых покусали бродячие собаки, и 50 человек, на которых напали уличные кошки. В семи случаях у животных было обнаружено инфекционное заболевание бешенство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AutoShap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8858520" cy="1187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vet-matroskin.ru/assets/images/Dogs_Dogue_de_Bordeaux_455570.jpg"/>
          <p:cNvPicPr/>
          <p:nvPr/>
        </p:nvPicPr>
        <p:blipFill>
          <a:blip r:embed="rId2"/>
          <a:stretch/>
        </p:blipFill>
        <p:spPr>
          <a:xfrm>
            <a:off x="5054760" y="3857760"/>
            <a:ext cx="33494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14200" y="171432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практическ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и ребят нашего класса 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 6 класса нашей школы.  Их вниманию были предложены 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 с вариантами ответ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Имеете ли Вы домашнего питомца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тноситесь к бездомным собакам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с жалостью                Б)  равнодушно                        В) с агресси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гласились ли Вы взять домой бездомную собаку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надо поступать с бездомными животными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рганизовать приюты          Б) усилить надзор за хозяевами домашних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вой вариант отве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2:37:17Z</dcterms:created>
  <dc:creator>Карина</dc:creator>
  <dc:description/>
  <dc:language>en-US</dc:language>
  <cp:lastModifiedBy>Карина</cp:lastModifiedBy>
  <dcterms:modified xsi:type="dcterms:W3CDTF">2017-02-28T18:16:03Z</dcterms:modified>
  <cp:revision>22</cp:revision>
  <dc:subject/>
  <dc:title>Слайд 1</dc:title>
</cp:coreProperties>
</file>